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dt" idx="16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 type="sldNum" idx="18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18D9D03-30E9-4256-B4A8-7BE47E4D2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041CD30-5796-4CA1-BD21-E1A57F60A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92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9C484E2-1EA0-45CC-ADAE-F64CD8564C7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DC948FF-AF89-46FA-9547-6569B172F4C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A5A6A0D-7F83-4002-91E2-6A75C4BF0CC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A4610AC-D0F5-4054-B40D-D0CE66E9B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2B11-C1EE-4EB4-8B4A-0BD4D231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E744-7CF8-4B53-92CE-BAB1FBE8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294F-BF4F-41A5-BC91-475A0459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0BA9-6651-46A5-8CF8-70EB5127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6A82-32B4-4AAA-B95A-8175A5D6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10B3-6DF6-4A9F-A5CF-7898CE6F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CC9-AE78-4704-BD77-200D7F3F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DF5D-8202-4E88-935F-28005E17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A87E-F669-4F98-960E-4F0C406E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2B8C-EACD-4563-AE33-9F419ED1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9FF8-A9D9-4493-A8E8-F25FD224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A89D-8E70-490D-87C7-8056A72B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08E5-612B-4E77-AE9D-869DB931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2637-C96C-44C0-847F-AC44B98D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B3CB-376B-4854-84A8-725D8903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D6AF-218C-48E9-B5FE-F3C74C8D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86D29-9B13-40C5-B73D-B8C0F14E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940-74AA-40E0-9044-22689B27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C232E-1845-4451-A86E-8191BAC1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6D736-06D3-43FD-A6B6-0BFDBB27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6FFA6-60EC-480F-8934-91A0F81C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E4CCB-E2EB-48E6-99FA-FC610C32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891D2-455A-42F7-A2EC-BD45836D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9BE61-3177-4586-B307-BE1CF981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BC460-D8A2-4BE7-936E-646205F2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383D9-3EB5-4FEB-A0EB-DC5EBF76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61C53-DCE1-4B87-B0B5-90E308BD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94CE9-08AE-4D9B-BD2F-64B5E290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70A7-331E-48B7-9B27-D297F347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EA7E3-D0AB-41D3-BDB6-C59E9F13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44193-2E69-4112-97FC-3DE4B905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CC612-783D-402F-A7C9-79D9A8C5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CB97F-CB03-4EC9-AAD5-59D71D44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8FE53-C46B-4997-BA58-78E6600E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79322-F023-47F1-A03F-7C6B79BE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57271-D31A-4665-9F21-C0603216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0936A-96F2-4852-A6C4-288B2869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2AA3B-345D-4B7D-9116-F2A2B765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6039C-855A-48F2-B535-8B2F7956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A705-EA59-44C6-81F3-65926852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BF13A-B02A-426D-8EA8-B449C684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CBE72-5D85-454A-8310-EF6BB20C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AAA07-C4F3-4A88-A7DD-75833C75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5953-F97A-44C0-AC89-07F0F681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EC393-0B17-489A-AFCD-5E9D70B1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793E0-251A-4246-8BE3-A98D35AA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7C72E-31C1-4FFD-B57F-5C2164C0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FCA43-7101-4CC6-B92C-7B3FAC46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FD873-858A-4401-B532-099E9D00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1414-1523-4387-B677-571639E7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304BC-F789-4B62-9AED-8C4848E8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21328-5399-4B5E-9323-BA3D4B0E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E7C9E-2D9C-419D-904E-DD00AB27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1F1BB-B1A7-4BD0-874A-D454E2FE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91AF7-64CB-4F91-A983-EC2A7FA5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AE4C7-8662-4F01-A9F8-B159B1CB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F82AE-F02F-43DF-986E-8592841D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314-62DF-4DE4-9EC6-10083418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64B-F96B-4D28-B824-1C07D103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5C5-8911-4814-8D14-71527CB0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3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B0C9-A69B-4300-92C2-D004F1B3805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7640" cy="14000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8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14FE-D65E-483E-B0EB-EE5DBBB46638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10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11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9150-83E9-4B68-9880-8E507E6A9A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6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6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8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9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1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14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E89A-B516-47ED-8364-EB5665D0EB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2C3B-0173-4769-86D0-4D830BE730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8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17" descr="dreapta_1000x440"/>
          <p:cNvPicPr/>
          <p:nvPr/>
        </p:nvPicPr>
        <p:blipFill>
          <a:blip r:embed="rId1"/>
          <a:stretch/>
        </p:blipFill>
        <p:spPr>
          <a:xfrm>
            <a:off x="-9360" y="1162080"/>
            <a:ext cx="9153360" cy="478152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13"/>
          <p:cNvSpPr/>
          <p:nvPr/>
        </p:nvSpPr>
        <p:spPr>
          <a:xfrm>
            <a:off x="57240" y="1380960"/>
            <a:ext cx="534348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IPA funding for floods recovery in Bosnia and Herzegovina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onor Coordination For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Sarajevo, 16 Octo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9"/>
          <p:cNvSpPr/>
          <p:nvPr/>
        </p:nvSpPr>
        <p:spPr>
          <a:xfrm>
            <a:off x="3943440" y="5808600"/>
            <a:ext cx="5200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Delegation of the European Union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                                                            </a:t>
            </a: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to Bosnia and Herzegovi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5" descr=""/>
          <p:cNvPicPr/>
          <p:nvPr/>
        </p:nvPicPr>
        <p:blipFill>
          <a:blip r:embed="rId2"/>
          <a:stretch/>
        </p:blipFill>
        <p:spPr>
          <a:xfrm>
            <a:off x="5556240" y="6100920"/>
            <a:ext cx="987480" cy="66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3"/>
          <p:cNvSpPr/>
          <p:nvPr/>
        </p:nvSpPr>
        <p:spPr>
          <a:xfrm>
            <a:off x="457200" y="2133720"/>
            <a:ext cx="8229600" cy="41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Donors Conference of 16 July:</a:t>
            </a:r>
            <a:r>
              <a:rPr b="1" lang="en-GB" sz="16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 85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M € pledged for Bosnia and Herzegovi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Assistance provided in two packag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400"/>
              </a:spcBef>
              <a:buClr>
                <a:srgbClr val="10016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EU Flood Recovery Programme (</a:t>
            </a:r>
            <a:r>
              <a:rPr b="1" lang="en-GB" sz="16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42.24 M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€): on-going since 15 August 2014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400"/>
              </a:spcBef>
              <a:buClr>
                <a:srgbClr val="10016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IPA 2014 Special Measures (appr. </a:t>
            </a:r>
            <a:r>
              <a:rPr b="1" lang="en-GB" sz="16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43 M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€): plann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Additional funding: </a:t>
            </a:r>
            <a:r>
              <a:rPr b="1" lang="en-GB" sz="16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20 M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€</a:t>
            </a:r>
            <a:r>
              <a:rPr b="1" i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regional programme for river management jointly with Ser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Based on findings of the </a:t>
            </a:r>
            <a:r>
              <a:rPr b="1" lang="en-GB" sz="16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Recovery Needs Assessment (RNA)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for Bosnia and Herzegovi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Rectangle 2"/>
          <p:cNvGrpSpPr/>
          <p:nvPr/>
        </p:nvGrpSpPr>
        <p:grpSpPr>
          <a:xfrm>
            <a:off x="334800" y="1316160"/>
            <a:ext cx="8412480" cy="903240"/>
            <a:chOff x="334800" y="1316160"/>
            <a:chExt cx="8412480" cy="903240"/>
          </a:xfrm>
        </p:grpSpPr>
        <p:pic>
          <p:nvPicPr>
            <p:cNvPr id="772" name="Rectangle 2" descr=""/>
            <p:cNvPicPr/>
            <p:nvPr/>
          </p:nvPicPr>
          <p:blipFill>
            <a:blip r:embed="rId1"/>
            <a:stretch/>
          </p:blipFill>
          <p:spPr>
            <a:xfrm>
              <a:off x="334800" y="1316160"/>
              <a:ext cx="841248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393840" y="1405080"/>
              <a:ext cx="829296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EU support to post-floods recovery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Rectangle 3" descr=""/>
          <p:cNvPicPr/>
          <p:nvPr/>
        </p:nvPicPr>
        <p:blipFill>
          <a:blip r:embed="rId1"/>
          <a:stretch/>
        </p:blipFill>
        <p:spPr>
          <a:xfrm>
            <a:off x="165240" y="2114640"/>
            <a:ext cx="8753400" cy="5207040"/>
          </a:xfrm>
          <a:prstGeom prst="rect">
            <a:avLst/>
          </a:prstGeom>
          <a:ln w="0">
            <a:noFill/>
          </a:ln>
        </p:spPr>
      </p:pic>
      <p:grpSp>
        <p:nvGrpSpPr>
          <p:cNvPr id="775" name="Rectangle 2"/>
          <p:cNvGrpSpPr/>
          <p:nvPr/>
        </p:nvGrpSpPr>
        <p:grpSpPr>
          <a:xfrm>
            <a:off x="334800" y="1316160"/>
            <a:ext cx="8412480" cy="903240"/>
            <a:chOff x="334800" y="1316160"/>
            <a:chExt cx="8412480" cy="903240"/>
          </a:xfrm>
        </p:grpSpPr>
        <p:pic>
          <p:nvPicPr>
            <p:cNvPr id="776" name="Rectangle 2" descr=""/>
            <p:cNvPicPr/>
            <p:nvPr/>
          </p:nvPicPr>
          <p:blipFill>
            <a:blip r:embed="rId2"/>
            <a:stretch/>
          </p:blipFill>
          <p:spPr>
            <a:xfrm>
              <a:off x="334800" y="1316160"/>
              <a:ext cx="841248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393840" y="1405080"/>
              <a:ext cx="829296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1. EU Flood Recovery Programm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8" name="Picture 6" descr=""/>
          <p:cNvPicPr/>
          <p:nvPr/>
        </p:nvPicPr>
        <p:blipFill>
          <a:blip r:embed="rId3"/>
          <a:stretch/>
        </p:blipFill>
        <p:spPr>
          <a:xfrm>
            <a:off x="196920" y="3506760"/>
            <a:ext cx="259884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3"/>
          <p:cNvSpPr/>
          <p:nvPr/>
        </p:nvSpPr>
        <p:spPr>
          <a:xfrm>
            <a:off x="196920" y="2133720"/>
            <a:ext cx="868680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Ready for implementation in 2015 (appr. 63 million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 IPA funding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13.5 M € from IPA National Programme 2014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27.5 M € from the IPA Regional Programm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1,75 M € from IPA National saving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Additional 20 M € from IPA Regional for joint regional projects for flood protection and river management with Serbi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Prioritie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Strengthening civil protection capacities for emergency respons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Supporting civil society efforts for social and economic recovery in flood affected area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Flood protection and river management urgent measures in BiH and regional measures jointly with Serbi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SMEs and local development in flood-affected area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Additional housing suppor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Rehabilitation of judicial infrastructu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Rectangle 2"/>
          <p:cNvGrpSpPr/>
          <p:nvPr/>
        </p:nvGrpSpPr>
        <p:grpSpPr>
          <a:xfrm>
            <a:off x="334800" y="1316160"/>
            <a:ext cx="8412480" cy="903240"/>
            <a:chOff x="334800" y="1316160"/>
            <a:chExt cx="8412480" cy="903240"/>
          </a:xfrm>
        </p:grpSpPr>
        <p:pic>
          <p:nvPicPr>
            <p:cNvPr id="781" name="Rectangle 2" descr=""/>
            <p:cNvPicPr/>
            <p:nvPr/>
          </p:nvPicPr>
          <p:blipFill>
            <a:blip r:embed="rId1"/>
            <a:stretch/>
          </p:blipFill>
          <p:spPr>
            <a:xfrm>
              <a:off x="334800" y="1316160"/>
              <a:ext cx="841248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393840" y="1405080"/>
              <a:ext cx="829296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2. IPA 2014 Special Measures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17" descr="dreapta_1000x440"/>
          <p:cNvPicPr/>
          <p:nvPr/>
        </p:nvPicPr>
        <p:blipFill>
          <a:blip r:embed="rId1"/>
          <a:stretch/>
        </p:blipFill>
        <p:spPr>
          <a:xfrm>
            <a:off x="-9360" y="1162080"/>
            <a:ext cx="9153360" cy="4762440"/>
          </a:xfrm>
          <a:prstGeom prst="rect">
            <a:avLst/>
          </a:prstGeom>
          <a:ln w="0">
            <a:noFill/>
          </a:ln>
        </p:spPr>
      </p:pic>
      <p:sp>
        <p:nvSpPr>
          <p:cNvPr id="784" name="Text Box 13"/>
          <p:cNvSpPr/>
          <p:nvPr/>
        </p:nvSpPr>
        <p:spPr>
          <a:xfrm>
            <a:off x="28440" y="1638360"/>
            <a:ext cx="516276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Thank you!</a:t>
            </a:r>
            <a:br>
              <a:rPr sz="25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lvin Asi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ead of Co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 Delegation to Bosnia and Herzegovin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9"/>
          <p:cNvSpPr/>
          <p:nvPr/>
        </p:nvSpPr>
        <p:spPr>
          <a:xfrm>
            <a:off x="3943440" y="5808600"/>
            <a:ext cx="5200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Delegation of the European Union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                                                            </a:t>
            </a: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to Bosnia and Herzegovi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7" descr=""/>
          <p:cNvPicPr/>
          <p:nvPr/>
        </p:nvPicPr>
        <p:blipFill>
          <a:blip r:embed="rId2"/>
          <a:stretch/>
        </p:blipFill>
        <p:spPr>
          <a:xfrm>
            <a:off x="5556240" y="6067440"/>
            <a:ext cx="987480" cy="66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4:29:17Z</dcterms:created>
  <dc:creator>kurfuerst</dc:creator>
  <dc:description/>
  <dc:language>en-US</dc:language>
  <cp:lastModifiedBy>operater</cp:lastModifiedBy>
  <dcterms:modified xsi:type="dcterms:W3CDTF">2014-10-15T11:27:05Z</dcterms:modified>
  <cp:revision>899</cp:revision>
  <dc:subject/>
  <dc:title>Folie 1</dc:title>
</cp:coreProperties>
</file>